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BAAD-D69E-484B-A0A5-2EA6D17E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2F3F-22C0-4E98-A7E6-956EE009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01F1-96C1-4CF3-BD0C-CCDBCBC0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DE4A-1DEC-44B4-934D-6C3CB46C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4876-7527-477E-BE33-01EE047A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FAD1-A9A6-46E2-9C56-2AA148C0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445F-99C0-423E-9240-EB83E82C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1798-0E6C-48B1-9087-8749A7CA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AA9F-276A-4E92-B73A-6F7B178C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210D-767C-4A6F-8255-68AA8DDE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FB57-B954-4EF2-BAAF-6E4483CF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181A-A1E1-48C1-93D3-53D66889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1E3A-4E35-4DB6-818F-B0AFE4FF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9998-34F0-4D7C-9DDD-D24DFB2B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CBD1-8DF5-495A-9E8B-C2875FE8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4505-E1BC-4C85-9E59-605F4F46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93CC-C95A-4506-B0D3-FBA4C68E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ACB90-263D-4425-BDD5-7018F204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03C5B-3B58-4E65-B963-FFCAB1A0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6DC2E-A084-434A-A2F5-417997CE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73978-4557-42AE-A3CF-0DD84E82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337BE-0D21-4EB3-B203-AF517696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B57A-E795-48DE-89E0-4FAC9FB5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75FC7-7576-4FC9-B303-6B9E59C8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EF82F-7C04-4E8A-8EC9-A3D3F762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598F3-DA3D-4D11-852B-23B463E6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F7BDF-9D63-413D-831F-2A6F965A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B2B77-7E20-4151-A9A9-A045F6AC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5326F-8459-4949-BBE1-7D0C3C22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426BD-8BDC-4E03-BBCD-8F7F22BD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8E5-65C6-4BD4-85AB-69C51EE8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5F65-797A-4D35-8A54-F1737506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8572-40BB-4C01-9FD4-2758A9DD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3DD0-2349-4538-BA66-457EDCBD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694B-C434-4FD5-9056-25FB4829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3F2B-7EB8-4FDC-84B2-303AEC60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3819600" y="4010040"/>
          <a:ext cx="5324400" cy="284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19600" y="4010040"/>
                    <a:ext cx="532440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empus Sans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empus Sans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empus Sans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F6C6-0F6E-44D2-B23F-6A356F3B6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1967040"/>
          <a:ext cx="9144000" cy="489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67040"/>
                    <a:ext cx="9144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A8C5-9D7E-471B-A32C-BCF7E2D7D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empus Sans IT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empus Sans IT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empus Sans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empus Sans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empus Sans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empus Sans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empus Sans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DE53-63B0-4D28-883E-C535A8642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Tempus Sans ITC"/>
              </a:rPr>
              <a:t>Bloom’s Taxonomy</a:t>
            </a:r>
            <a:endParaRPr b="1" lang="en-US" sz="7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4792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Levels of Questioning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Tempus Sans ITC"/>
              </a:rPr>
              <a:t>Your Assignment</a:t>
            </a:r>
            <a:endParaRPr b="1" lang="en-US" sz="6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empus Sans ITC"/>
              </a:rPr>
              <a:t>At the end of the period, you will trade your questions with a partner (that I will appoint you).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empus Sans ITC"/>
              </a:rPr>
              <a:t>You will answer your partner’s questions tonight.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Tempus Sans ITC"/>
              </a:rPr>
              <a:t>Your Assignment</a:t>
            </a:r>
            <a:endParaRPr b="1" lang="en-US" sz="6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24"/>
              </a:spcBef>
              <a:buClr>
                <a:srgbClr val="ff33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3300"/>
                </a:solidFill>
                <a:latin typeface="Tempus Sans ITC"/>
              </a:rPr>
              <a:t>Tomorrow you will provide feedback to your partner’s answers.</a:t>
            </a:r>
            <a:endParaRPr b="0" lang="en-US" sz="37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924"/>
              </a:spcBef>
              <a:buClr>
                <a:srgbClr val="ff33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3300"/>
                </a:solidFill>
                <a:latin typeface="Tempus Sans ITC"/>
              </a:rPr>
              <a:t>You will staple your work with your partner’s work.</a:t>
            </a:r>
            <a:endParaRPr b="0" lang="en-US" sz="37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924"/>
              </a:spcBef>
              <a:buClr>
                <a:srgbClr val="ff33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3300"/>
                </a:solidFill>
                <a:latin typeface="Tempus Sans ITC"/>
              </a:rPr>
              <a:t>You will receive individual grades.</a:t>
            </a:r>
            <a:endParaRPr b="0" lang="en-US" sz="37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empus Sans ITC"/>
              </a:rPr>
              <a:t>Knowledge</a:t>
            </a:r>
            <a:endParaRPr b="1" lang="en-US" sz="6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6781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n-US" sz="3000" spc="-1" strike="noStrike">
                <a:solidFill>
                  <a:srgbClr val="99cc00"/>
                </a:solidFill>
                <a:latin typeface="Tempus Sans ITC"/>
              </a:rPr>
              <a:t>Activities That Could Be Used</a:t>
            </a:r>
            <a:endParaRPr b="1" lang="en-US" sz="30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Make a list of the main events..,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Make a timeline of events…,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Make a facts chart…..,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Write a list of any pieces of information you can remember..,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List all the……..in the story,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Make a chart showing…..,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Make an acrostic…,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Recite a poem…,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391520" y="3191040"/>
          <a:ext cx="119988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3191040"/>
                    <a:ext cx="119988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6934320" y="2743200"/>
          <a:ext cx="1809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2743200"/>
                    <a:ext cx="1809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empus Sans ITC"/>
              </a:rPr>
              <a:t>Comprehension</a:t>
            </a:r>
            <a:endParaRPr b="1" lang="en-US" sz="6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cc00"/>
                </a:solidFill>
                <a:latin typeface="Tempus Sans ITC"/>
              </a:rPr>
              <a:t>Activities That Could Be Used</a:t>
            </a:r>
            <a:endParaRPr b="1" lang="en-US" sz="3000" spc="-1" strike="noStrike">
              <a:solidFill>
                <a:srgbClr val="000000"/>
              </a:solidFill>
              <a:latin typeface="Tempus Sans ITC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Cut out or draw pictures to show a particular event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Illustrate what you think the main idea was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Write and perform a play based on the story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Retell the story in your words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Paint a picture of some aspect you like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Make a coloring book.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Write a summary report of an event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Prepare a flow chart to illustrate the sequence of events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Make a cartoon strip showing the sequence of events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7086600" y="2133720"/>
          <a:ext cx="1712880" cy="51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2133720"/>
                    <a:ext cx="1712880" cy="51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empus Sans ITC"/>
              </a:rPr>
              <a:t>Application</a:t>
            </a:r>
            <a:endParaRPr b="1" lang="en-US" sz="6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cc00"/>
                </a:solidFill>
                <a:latin typeface="Tempus Sans ITC"/>
              </a:rPr>
              <a:t>Activities That Could Be Used</a:t>
            </a:r>
            <a:endParaRPr b="1" lang="en-US" sz="30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Paint a mural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Take a collection of photographs to demonstrate a particular point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Make a clay model of an item in the material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Make a scrapbook about the areas of study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Construct a model to demonstrate how it will work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Make a diorama to illustrate an important event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Make up a puzzle game using the ideas from the study area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Write a textbook about________ for others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6819840" y="1981080"/>
          <a:ext cx="20350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9840" y="1981080"/>
                    <a:ext cx="20350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empus Sans ITC"/>
              </a:rPr>
              <a:t>Analysis</a:t>
            </a:r>
            <a:endParaRPr b="1" lang="en-US" sz="6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cc00"/>
                </a:solidFill>
                <a:latin typeface="Tempus Sans ITC"/>
              </a:rPr>
              <a:t>Activities That Could Be Used</a:t>
            </a:r>
            <a:endParaRPr b="1" lang="en-US" sz="30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Design a questionnaire to gather information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Write a commercial to sell a new product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Make a jigsaw puzzle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Make a flow chart to show the critical stages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Construct a graph to illustrate selected information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Conduct an investigation to produce information to support a view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Make a family tree showing relationships.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Put on a play about the study area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Write a biography of the study person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Prepare a report about the area of study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6629400" y="1143000"/>
          <a:ext cx="21718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143000"/>
                    <a:ext cx="21718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empus Sans ITC"/>
              </a:rPr>
              <a:t>Synthesis</a:t>
            </a:r>
            <a:endParaRPr b="1" lang="en-US" sz="6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cc00"/>
                </a:solidFill>
                <a:latin typeface="Tempus Sans ITC"/>
              </a:rPr>
              <a:t>Activities That Could Be Used</a:t>
            </a:r>
            <a:endParaRPr b="1" lang="en-US" sz="30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Invent a machine to do a specific task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Design a building to house your study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Create a new product.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Give it a name and plan a marketing campaign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Write about your feelings in relation to…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Write a TV show, play, puppet show, song about …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Design a record, book, or magazine cover for……..?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Sell an idea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Devise a way to………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Put new words (about the study area) to a known melody.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6622920" y="152280"/>
          <a:ext cx="2406960" cy="670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2920" y="152280"/>
                    <a:ext cx="24069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empus Sans ITC"/>
              </a:rPr>
              <a:t>Evaluation</a:t>
            </a:r>
            <a:endParaRPr b="1" lang="en-US" sz="6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cc00"/>
                </a:solidFill>
                <a:latin typeface="Tempus Sans ITC"/>
              </a:rPr>
              <a:t>Activities That Could Be Used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marL="325800" indent="-325800"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Prepare a case to present your view about… </a:t>
            </a:r>
            <a:endParaRPr b="1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25800" indent="-325800"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Prepare a list of criteria to judge a show. indicate priority and ratings.</a:t>
            </a:r>
            <a:endParaRPr b="1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Make a booklet about 5 rules (about the study area) you see as important. Convince others.</a:t>
            </a:r>
            <a:endParaRPr b="1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Conduct a debate about an issue of special interest. </a:t>
            </a:r>
            <a:endParaRPr b="1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Write a letter to……….advising on changes needed at……..</a:t>
            </a:r>
            <a:endParaRPr b="1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empus Sans ITC"/>
              </a:rPr>
              <a:t>Background</a:t>
            </a:r>
            <a:endParaRPr b="1" lang="en-US" sz="6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empus Sans ITC"/>
              </a:rPr>
              <a:t>Benjamin Bloom was a well known psychologist in the mid-1900’s. </a:t>
            </a:r>
            <a:endParaRPr b="0" lang="en-US" sz="2200" spc="-1" strike="noStrike">
              <a:solidFill>
                <a:srgbClr val="000000"/>
              </a:solidFill>
              <a:latin typeface="Tempus Sans ITC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empus Sans ITC"/>
              </a:rPr>
              <a:t>He studied how people learn.</a:t>
            </a:r>
            <a:endParaRPr b="0" lang="en-US" sz="2200" spc="-1" strike="noStrike">
              <a:solidFill>
                <a:srgbClr val="000000"/>
              </a:solidFill>
              <a:latin typeface="Tempus Sans ITC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empus Sans ITC"/>
              </a:rPr>
              <a:t>He believed levels of intellectual behavior were important in learning.</a:t>
            </a:r>
            <a:endParaRPr b="0" lang="en-US" sz="2200" spc="-1" strike="noStrike">
              <a:solidFill>
                <a:srgbClr val="000000"/>
              </a:solidFill>
              <a:latin typeface="Tempus Sans ITC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empus Sans ITC"/>
              </a:rPr>
              <a:t>Through extensive research, Bloom found that over 95% of test questions required students to think only at the lowest level.</a:t>
            </a:r>
            <a:endParaRPr b="0" lang="en-US" sz="2200" spc="-1" strike="noStrike">
              <a:solidFill>
                <a:srgbClr val="000000"/>
              </a:solidFill>
              <a:latin typeface="Tempus Sans ITC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empus Sans ITC"/>
              </a:rPr>
              <a:t>Things have changed in education because of Bloom and his colleagues. </a:t>
            </a:r>
            <a:endParaRPr b="0" lang="en-US" sz="2200" spc="-1" strike="noStrike">
              <a:solidFill>
                <a:srgbClr val="000000"/>
              </a:solidFill>
              <a:latin typeface="Tempus Sans ITC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empus Sans ITC"/>
              </a:rPr>
              <a:t>They created six levels of questioning.</a:t>
            </a:r>
            <a:endParaRPr b="0" lang="en-US" sz="2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empus Sans ITC"/>
              </a:rPr>
              <a:t>Knowledge</a:t>
            </a:r>
            <a:endParaRPr b="1" lang="en-US" sz="6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empus Sans ITC"/>
              </a:rPr>
              <a:t>What happened after....? </a:t>
            </a:r>
            <a:endParaRPr b="1" lang="en-US" sz="30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empus Sans ITC"/>
              </a:rPr>
              <a:t>How many....? </a:t>
            </a:r>
            <a:endParaRPr b="1" lang="en-US" sz="30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empus Sans ITC"/>
              </a:rPr>
              <a:t>Who was it that....? </a:t>
            </a:r>
            <a:endParaRPr b="1" lang="en-US" sz="30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empus Sans ITC"/>
              </a:rPr>
              <a:t>Describe what happened at.. .?</a:t>
            </a:r>
            <a:endParaRPr b="1" lang="en-US" sz="30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empus Sans ITC"/>
              </a:rPr>
              <a:t>Which is true or false.....? </a:t>
            </a:r>
            <a:endParaRPr b="1" lang="en-US" sz="30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empus Sans ITC"/>
              </a:rPr>
              <a:t>Who spoke to....? </a:t>
            </a:r>
            <a:endParaRPr b="1" lang="en-US" sz="30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empus Sans ITC"/>
              </a:rPr>
              <a:t>Can you tell me who....? </a:t>
            </a:r>
            <a:endParaRPr b="1" lang="en-US" sz="30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empus Sans ITC"/>
              </a:rPr>
              <a:t>Find the meaning of.. .? </a:t>
            </a:r>
            <a:endParaRPr b="1" lang="en-US" sz="30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empus Sans ITC"/>
              </a:rPr>
              <a:t>What is....?</a:t>
            </a:r>
            <a:endParaRPr b="1" lang="en-US" sz="3000" spc="-1" strike="noStrike">
              <a:solidFill>
                <a:srgbClr val="000000"/>
              </a:solidFill>
              <a:latin typeface="Tempus Sans ITC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391520" y="3191040"/>
          <a:ext cx="119988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3191040"/>
                    <a:ext cx="119988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6934320" y="2743200"/>
          <a:ext cx="1809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2743200"/>
                    <a:ext cx="1809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empus Sans ITC"/>
              </a:rPr>
              <a:t>Comprehension</a:t>
            </a:r>
            <a:endParaRPr b="1" lang="en-US" sz="6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empus Sans ITC"/>
              </a:rPr>
              <a:t>Can you write in your own words....? </a:t>
            </a:r>
            <a:endParaRPr b="1" lang="en-US" sz="26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empus Sans ITC"/>
              </a:rPr>
              <a:t>What do you think could have happened next....? </a:t>
            </a:r>
            <a:endParaRPr b="1" lang="en-US" sz="26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empus Sans ITC"/>
              </a:rPr>
              <a:t>Can you provide an example of what you mean by....? </a:t>
            </a:r>
            <a:endParaRPr b="1" lang="en-US" sz="26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empus Sans ITC"/>
              </a:rPr>
              <a:t>Write a brief outline..... </a:t>
            </a:r>
            <a:endParaRPr b="1" lang="en-US" sz="26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empus Sans ITC"/>
              </a:rPr>
              <a:t>Who do you think.....? </a:t>
            </a:r>
            <a:endParaRPr b="1" lang="en-US" sz="26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empus Sans ITC"/>
              </a:rPr>
              <a:t>What was the main idea? </a:t>
            </a:r>
            <a:endParaRPr b="1" lang="en-US" sz="26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empus Sans ITC"/>
              </a:rPr>
              <a:t>Who was the main character? </a:t>
            </a:r>
            <a:endParaRPr b="1" lang="en-US" sz="26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empus Sans ITC"/>
              </a:rPr>
              <a:t>Can you distinguish between....? </a:t>
            </a:r>
            <a:endParaRPr b="1" lang="en-US" sz="26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empus Sans ITC"/>
              </a:rPr>
              <a:t>What differences exist between...? </a:t>
            </a:r>
            <a:endParaRPr b="1" lang="en-US" sz="26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empus Sans ITC"/>
              </a:rPr>
              <a:t>Can you provide a definition for....? </a:t>
            </a:r>
            <a:endParaRPr b="1" lang="en-US" sz="26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7086600" y="2133720"/>
          <a:ext cx="1712880" cy="51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2133720"/>
                    <a:ext cx="1712880" cy="51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empus Sans ITC"/>
              </a:rPr>
              <a:t>Application</a:t>
            </a:r>
            <a:endParaRPr b="1" lang="en-US" sz="6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Can you apply the method used to some experience of your own....? </a:t>
            </a:r>
            <a:endParaRPr b="1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Do you know another instance where....? </a:t>
            </a:r>
            <a:endParaRPr b="1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Could this have happened in....? </a:t>
            </a:r>
            <a:endParaRPr b="1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What factors would you change if....? </a:t>
            </a:r>
            <a:endParaRPr b="1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What questions would you ask of ....? </a:t>
            </a:r>
            <a:endParaRPr b="1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From the information given, develop a set of instructions about....? </a:t>
            </a:r>
            <a:endParaRPr b="1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Would this information be useful if you had a ....? </a:t>
            </a:r>
            <a:endParaRPr b="1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6819840" y="1981080"/>
          <a:ext cx="20350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9840" y="1981080"/>
                    <a:ext cx="20350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empus Sans ITC"/>
              </a:rPr>
              <a:t>Analysis</a:t>
            </a:r>
            <a:endParaRPr b="1" lang="en-US" sz="6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Which event could not have happened if....?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If....happened, what might the ending have been?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How was this similar to....?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What was the underlying theme of....?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What do you see as other possible outcomes?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Why did....changes occur?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Can you compare your....with that presented in....?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What must have happened when....?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How is...similar to....?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What are some of the problems of....?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Can you distinguish between...?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What was the turning point in the story?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What was the problem with....?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What were some of the motives behind....?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629400" y="1143000"/>
          <a:ext cx="21718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143000"/>
                    <a:ext cx="21718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empus Sans ITC"/>
              </a:rPr>
              <a:t>Synthesis</a:t>
            </a:r>
            <a:endParaRPr b="1" lang="en-US" sz="6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Can you design a....to....? </a:t>
            </a:r>
            <a:endParaRPr b="1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What is a possible solution to....? </a:t>
            </a:r>
            <a:endParaRPr b="1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What would happen if....? </a:t>
            </a:r>
            <a:endParaRPr b="1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How would you devise your own way to....? </a:t>
            </a:r>
            <a:endParaRPr b="1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How many ways can you....? </a:t>
            </a:r>
            <a:endParaRPr b="1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Can you create new and unusual uses for....? </a:t>
            </a:r>
            <a:endParaRPr b="1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Can you develop a proposal which would....? </a:t>
            </a:r>
            <a:endParaRPr b="1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How would you compose a song about....? </a:t>
            </a:r>
            <a:endParaRPr b="1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Can you write a new recipe for…?</a:t>
            </a:r>
            <a:endParaRPr b="1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If you had access to all resources, how would you deal with....? </a:t>
            </a:r>
            <a:endParaRPr b="1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6622920" y="152280"/>
          <a:ext cx="2406960" cy="670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2920" y="152280"/>
                    <a:ext cx="24069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empus Sans ITC"/>
              </a:rPr>
              <a:t>Evaluation</a:t>
            </a:r>
            <a:endParaRPr b="1" lang="en-US" sz="6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391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Is there a better solution to....?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Do you think....is a good or bad thing? Explain.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Judge the value of....?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Defend your position about....?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How would you have handled....?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What changes to...would you recommend? Why?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Do you believe....?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Are you a ....person? Why?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How would you feel if....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How effective are....? 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What do you think about....?</a:t>
            </a:r>
            <a:endParaRPr b="1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Tempus Sans ITC"/>
              </a:rPr>
              <a:t>Your Assignment</a:t>
            </a:r>
            <a:endParaRPr b="1" lang="en-US" sz="6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empus Sans ITC"/>
              </a:rPr>
              <a:t>You will write a  question from each level of the Bloom’s Taxonomy levels of questioning.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empus Sans ITC"/>
              </a:rPr>
              <a:t>Use the stems provided each time.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22:09:01Z</dcterms:created>
  <dc:creator>Kerry Jo Smith</dc:creator>
  <dc:description/>
  <dc:language>en-US</dc:language>
  <cp:lastModifiedBy>GISD</cp:lastModifiedBy>
  <dcterms:modified xsi:type="dcterms:W3CDTF">2008-07-03T16:03:00Z</dcterms:modified>
  <cp:revision>13</cp:revision>
  <dc:subject/>
  <dc:title>Bloom’s </dc:title>
</cp:coreProperties>
</file>